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1BA-64C5-4675-BAE9-7B15ED40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C48-E6CD-4692-BD17-2BC50BF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E47-6458-4301-8AA9-32441345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308-CA6C-4ECF-86F1-BE306504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BAF5-C3A9-4379-AF9E-22913B94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695C-B26F-4840-94D9-76818407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D486-7C15-4135-99DE-3A4732B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E84-AB20-45FA-A3C6-82B790D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E9F0-60F9-4F6B-B10E-605A74BC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FE6-C156-4519-A52B-7160D89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6994-48DA-4C3E-946F-906580A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8EB-EC42-415F-9656-37E433B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FF0B-CD60-4B2D-BA70-8E9E5FA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F033-BF5E-4787-BBF1-AAF42972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E24D-EC40-42B1-8A7C-42B567BD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E33-61FC-476C-AC51-C793317E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D47A-0839-4481-ADBC-622B2633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68B-60CC-4028-AFDE-5C5755A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FFF-3555-46E8-BBA8-33ADE12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24D-0880-4144-848E-4D04E41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D11-B6EC-48A0-A4A6-754A8937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8E6-D488-4F42-90B3-73A101E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28C-9598-471A-96B5-5077B98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F18-431C-4110-A995-A864212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DB55-7A1D-4C50-96FE-3637489C7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B7E9-5864-4D3F-A4E4-4EE79604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Quiet on the Western Fr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rich Maria Remar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ld War I Ma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Triplealliance"/>
          <p:cNvPicPr/>
          <p:nvPr/>
        </p:nvPicPr>
        <p:blipFill>
          <a:blip r:embed="rId1"/>
          <a:stretch/>
        </p:blipFill>
        <p:spPr>
          <a:xfrm>
            <a:off x="1523880" y="1528920"/>
            <a:ext cx="6818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ShockwaveFlash1"/>
          <p:cNvGraphicFramePr/>
          <p:nvPr/>
        </p:nvGraphicFramePr>
        <p:xfrm>
          <a:off x="1066680" y="1828800"/>
          <a:ext cx="6248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24852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haracters in the no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ul Baumer – young German soldier; protagon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islaus Katczinsky – Kat; Paul’s best fri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bert Kropp – intelligent; friend of Pa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ler – hardheaded, prac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jaden – wiry; hates Himmelst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ntorek – pompous schoolmaster of Paul’s before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Charact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poral Himmelstoss – petty, power hungry; most hate h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nz Kemmerich – shows the brutality of war and f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seph Behm – did not want to en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ing – constantly homesi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ard Duval – French sol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uiding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risis does the protagonist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ust the protagonist face his demons al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faith/Catholicism show up within the no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book relevant today? Is it applicable to today’s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riting conventions does the author use to convey the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book relate to the th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 Sched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tember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-5 Quiz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tember 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6-8 Quiz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-12 Test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28:25Z</dcterms:created>
  <dc:creator>jvanengen</dc:creator>
  <dc:description/>
  <dc:language>en-US</dc:language>
  <cp:lastModifiedBy>Administrator</cp:lastModifiedBy>
  <dcterms:modified xsi:type="dcterms:W3CDTF">2011-08-21T17:49:56Z</dcterms:modified>
  <cp:revision>42</cp:revision>
  <dc:subject/>
  <dc:title>All Quiet on the Western Front</dc:title>
</cp:coreProperties>
</file>